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CE2-0E02-43F7-85EC-8F8DA6D4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4B6-3C6A-4868-876B-186F6DCC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FEB42-8AFC-4F97-AF58-F01A21B4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C7E09-2B41-4D6F-A79C-004EECB8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277CA-CC27-4736-85CA-9D3DCEE2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382E3-CCBE-496C-9768-3CD7501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AFE63-4ADC-4924-9140-ED8EB86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B17E9-6B00-4F0A-987B-888D4D90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A2C18-17E5-45DD-8F7A-164010E6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209D1-818F-4F95-9CCE-771223A8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6FFAA-EBEA-4E89-9FEF-C293BD58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C198B-6081-4BB1-9E58-E20293A2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4BC-268E-44C3-89D2-E8DEF1D8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2CDCB-2871-40AF-A2AC-9B20ACA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92C6A-2ECD-41B3-BA0B-BEBA130A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C13A7-FFC9-48DD-8655-6801CFA1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4151D-CCCE-447D-B10D-47D1CEE0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33BA9-CEC5-46B0-B635-EF22DE54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7AA50-DBB4-4FF1-9ECB-CAD506DA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9F33D-457B-4303-9A7D-71C40AA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4F4E4-40EB-40FA-94FB-D351448B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80008-CB53-4C66-9BE8-736C1FFB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46882-5347-482A-9DB5-3FB3BE01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DD0-47F8-4BE8-A37E-763D31DB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55530-5D6B-47E4-BB2C-7D0E8AF0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3297F-1949-433C-9BC3-ED12DF33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B1FC0-6F02-4B3A-BBC1-88FD9083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26C76-8E0E-48B8-8680-1E4577A5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F66A1-6B16-4CFF-89A8-5A8FF468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572F2-0002-4F18-ABE7-529E2D09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14B96-EC38-4C62-9CD0-8033E8B4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27954-AFCB-41C1-BCD0-50D4EE5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12A38-4BE4-49D9-93FF-F6C9D39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27C76-1493-42F4-9910-E93A2DE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2D72-413F-4C10-8A6D-DD998752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D1B3A-F08A-445A-9DF2-449FA35D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683F8-5C87-409F-8778-8496DE06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91D31-3A60-49BF-A71D-CD2944AE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9B9B6-681C-414F-98BB-71594783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018AD-37FA-40D6-81E7-4267B281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9E986-08FF-4E16-947C-761DEF97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5D210-5DE3-4268-9DEA-B0758348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E892A-B800-447F-908E-4ABA85BE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48D90-F0EB-4920-B1C3-73F7F0BC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ABCC4-2194-4C70-8E31-F5F8FFBA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20CC-B257-4948-AA1C-673CAB99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0414A-5275-4733-95E2-BB2A478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4EE8A-95F7-43FE-AE75-FE28FC9B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11EDB-7A63-4287-8528-F38CEA79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C2197-C493-40EC-B43C-DB3C337B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F84A6-63BB-4B9C-9CD0-09BBC07C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DD1E-A298-4046-8E3C-A6D26A55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B592-7BE4-4E1A-AE1C-BCF86318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FC30-D2A3-42A6-B104-CBACEE0F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85AE-22AB-4850-9553-E930DB7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F767-072C-48CE-B3FD-8327AFE7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A3B-5BA2-428F-ADF9-BDEFDEA9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6640-B0F3-49F0-B855-D098D1B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435F-FD4D-4250-84FD-11EF008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49F7-A0C1-4B04-9607-5FE721C6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E5B4-0524-4643-9751-9AFF795B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B8F0-8DC0-4D13-9DBE-8A028DFC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BF13-6453-4679-A1B5-F87FA8C3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5B57-0236-4417-8055-B2B338E0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C118-CEB3-4C34-A55E-250A5FC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F82C-6733-4502-8A15-FAC29EC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3A45-E7B6-45C4-9329-ADB15F95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9C1-9EF3-46A8-A5E3-9DB15285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1033-033D-411F-886D-B72FC726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AE3F-3D5C-47D1-AB84-B882BE0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7AA0-79A6-49EF-B40A-0188C160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624E-935E-415D-93C9-754D7DD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76A4-B052-4AAD-9BD6-8F3FC630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8CAB-6F0C-4114-BCE1-68F0FDC9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E933-C955-43A8-9794-1F150029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2EE2-5D80-4532-9D15-E5490AD3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AEBD-3751-4129-8D88-32BA5C75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0A43-FF81-4CCB-AAE7-98CF77F6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AC9-FB2F-4B7A-B7F2-A7D84DE5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F4A35-6BB8-489C-98A6-84AC3F43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9B11-354F-4A29-9744-63593AB8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656C-3F8F-4553-B46B-8AD22FBF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4E7F-9613-4779-B486-747A605B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3A451-2AB3-45B5-A876-925FBCF0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1AE9-EDE7-4187-BB76-CE31848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C12C-22E6-4556-8F58-C2E2B285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259E8-110E-4C72-8F42-D4119DF9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DC7B-9EB7-4CFB-BFFE-9A391FFA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B3A80-D42E-4FC3-B4D6-FAE32027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8FA-3F5B-4CD2-AF59-2FFF540E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9EC95-EE1B-4A20-B889-C90EA778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7AC8-85AC-4509-B03C-E8C1B7C3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2A2A-808C-4FC2-A459-32CD2147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1736-AA88-43B7-A60F-CC231648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52D6-9BE8-4FDE-B34D-56DBB1D8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3C783-A39F-457F-B590-5FD4CEF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00432-DF98-4A93-B49F-D5CAC66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0805-73A3-40FA-AF43-1F3D0B03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3E19-1C7A-414F-87A1-FFA67BE1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0414C-91A1-405E-850F-01757444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935-CF10-4A16-BF3C-60027412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60261-ACCF-4DF9-B213-0DEE548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0DFBB-07C7-4D81-9C7D-FD22BE21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1658-F6DA-4BA8-B1D0-5BC695C9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ECE59-9719-40B7-8D48-F3653FEA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2D44-0572-4828-8A15-8E5C1BE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01415-EE62-4C33-88FC-3C37A258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8895-FD3D-419A-84AE-52CC574E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1542-0E0C-4ED9-9C0B-7A64F6C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09EE8-000E-4572-B1F6-8DC89A9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03B6C-5931-4A4E-9D78-A25D493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767-F480-419F-AEB1-A41828C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04F3-B8CF-4515-BD11-F10A119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E8B95-99B2-4481-A9CE-39732F94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CB6C-1C1F-43B0-B9CB-29591BBF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084D6-EA3C-49B0-8555-36F8665E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FF8EA-1D7C-4A53-BB89-70FC13AA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EE2D7-9A8B-4971-A0CC-989FED92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D2387-8A10-4CE4-8A17-CE6EA2E9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C3F83-622D-4A52-87EF-00E47A77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1F7F-B2A5-414F-BE48-F2006603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D3C6-988F-4427-A6B5-B63639BB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37E-35BE-4502-84AB-63EB750D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F854-37EA-4103-986B-0CAC0D9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30DE-D7A3-4E38-B3F5-F005B57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E29F-64E7-4994-A5A9-A4ECE561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FD5F-D1D6-401D-900E-4635B425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3137C-A14D-4373-BB89-0D7C3FE8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51B37-3BBC-48BB-80B3-4082C7E7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7BB0-E839-4141-B4CF-2C88556D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6E7B6-558B-4E86-BBCB-EB625617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EB449-9D61-471A-AEEB-74DAEC27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275C-43AE-400D-BF52-A6507E72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CB2-E5F2-4FAD-B41D-F20761B3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1196C-0B87-4B43-B3F6-BA777757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04F87-FE35-4FBD-AFAD-B17ECEB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6B038-FC13-4384-A3DC-E49AD57C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21877-CE44-416F-960C-1D43BD3F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3F367-C85C-4B3E-9513-3324A913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462D9-C432-45F5-8945-A75243E7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33A9D-BA02-4278-99FE-38A6BAAA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4042C-E23C-4618-8102-0371B850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7DCFA-F347-400A-8DC6-AFE614F7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6ADB8-D480-4DF4-B96D-AE44EDCF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C350-45FD-4BD1-B937-BB9215865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2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3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3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758-F668-44B2-AEEB-8C590B7DB3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0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23D1-26E7-48FB-B5EE-36153A3167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48FA-3FA6-4987-B196-2254CEB7DB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A6A2-0921-4463-852C-542393F22F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C0FF-44F1-45DA-8D45-6F5D1A7021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4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AEC3-62BA-4FE4-9981-9FE551B6B4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2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3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319C-A096-45DB-B12B-3498C0B700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0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FC66-921D-493F-8F61-FA6ACCD5F9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5303-4F34-47B0-9C8C-C698950E99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90E8-358F-49F9-85FD-2B93B385F8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4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5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5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D094-C0FB-4B20-80A5-C01DB7192C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ocs.google.com/document/d/1DGJaSIQ9sQz9E_TQdLqqHHRqBQfVkM4ny89WfiDrXiI/edi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digitalcommons.buffalostate.edu/spanish_lesson_plans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laits.utexas.edu/spe/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personal.colby.edu/~bknelson/SLC/index.php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forum.wordreference.com/forumdisplay.php?f=23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Foreign Language Ed. </a:t>
            </a:r>
            <a:br>
              <a:rPr sz="5400"/>
            </a:b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t Buff State: </a:t>
            </a:r>
            <a:r>
              <a:rPr b="0" i="1" lang="en-US" sz="5400" spc="-1" strike="noStrike">
                <a:solidFill>
                  <a:srgbClr val="ffff99"/>
                </a:solidFill>
                <a:latin typeface="Arial"/>
              </a:rPr>
              <a:t>Fast track to Spanish certification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22096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On your mark, get set…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online course incorporated many communicative activities that helped increase my proficiency.  It was a good balance of communicative activities and grammar based exercise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online course allowed a certain flexibility in terms of  completing activities and assignments that a traditional classroom course does not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as able to connect with several other LOTE teachers form the area to not only learn Spanish together but network and discuss our French programs as well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51920" y="1523880"/>
            <a:ext cx="8610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ara Muldoon (Lackawanna MS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did the majority of my cert online…I would honesty say that anyone who thinks that online classes are easier are mistaken. There is often a lot of work involved and you have to stay on top of the work and the due da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LOVED online learning because I was working full-time and I had a baby at home so being able to write papers at night and submit blogs during my lunch period at work....made life much easier for me.  I often would take my laptop outside and sit in the sun in the summer while doing work for your class.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's definitely an advantage to online learning........and being able to stay in your pajamas!!! :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22860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ownside is the oral aspect.  Your classes were the only ones that truly promoted the oral aspect of the language by Skyping with you and interviewing native speak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classes that I took often had NO oral assessments at all.  It is so important to speak the language to improv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ving the background in French made the Spanish a piece of cake. The languages are so similar.  I'd say to get hired as a French or Spanish teacher today that it is imperative to have both languages--many districts won't even look at you if you don't have both. 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Some worthwhile </a:t>
            </a:r>
            <a:br>
              <a:rPr sz="4400"/>
            </a:b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web-based resour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0" y="14475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3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earning Spanish After French (Googledoc): </a:t>
            </a:r>
            <a:r>
              <a:rPr b="0" lang="es-ES_tradnl" sz="1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ttps://docs.google.com/document/d/1DGJaSIQ9sQz9E_TQdLqqHHRqBQfVkM4ny89WfiDrXiI/edi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ingüística y Pedagogía del Español (Fb grou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4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ociocultural Model Lesson Plans: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http://digitalcommons.buffalostate.edu/spanish_lesson_plans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panish Proficiency Exercises (UT-Austin): </a:t>
            </a:r>
            <a:r>
              <a:rPr b="0" lang="es-ES_tradnl" sz="28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http://www.laits.utexas.edu/spe/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panish Language and Culture with Barbara Kuczun Nelson (Colby): </a:t>
            </a: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http://personal.colby.edu/~bknelson/SLC/index.ph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WordReference Forums: </a:t>
            </a:r>
            <a:r>
              <a:rPr b="0" lang="es-ES_tradnl" sz="22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http://forum.wordreference.com/forumdisplay.php?f=2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SzPct val="1496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ature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3" name="TextBox 2"/>
          <p:cNvSpPr/>
          <p:nvPr/>
        </p:nvSpPr>
        <p:spPr>
          <a:xfrm>
            <a:off x="228600" y="118728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ss size for courses in major capped at 1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iving Spanish Club featuring guest speakers and film discuss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AATSP-affiliated professional community,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Buffalo Spanish Teache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novative course of study that features coursework in Spanish teaching (en esp.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, clar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mmer study abroad program in Salaman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ended to fully online coursework that match innovative online learning technologies to rigorous standards for proficiency-oriented pedago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gram distinction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5" name="TextBox 2"/>
          <p:cNvSpPr/>
          <p:nvPr/>
        </p:nvSpPr>
        <p:spPr>
          <a:xfrm>
            <a:off x="304920" y="1022400"/>
            <a:ext cx="861048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mong first in state to achieve ACTFL (American Council on the Teaching of Foreign Languages)-NCATE </a:t>
            </a:r>
            <a:r>
              <a:rPr b="0" i="1" lang="en-US" sz="2500" spc="-1" strike="noStrike">
                <a:solidFill>
                  <a:srgbClr val="ffffff"/>
                </a:solidFill>
                <a:latin typeface="Verdana"/>
              </a:rPr>
              <a:t>(National Council for Accreditation in Teacher  Education) 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National Recognition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Upheld in 2012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ose connections to professional organizations from the local to national level..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ast track to adding Spanish: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Starting from scratch (18 crs.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lt Open SUNY for online Spanish (very few past 4th semester)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o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BE PICKY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Rosetta Stone- less useful for higher lev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earn while planning for future students. Use what you have as templa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Use web resources wisely- more authentic, less drill and grammar cha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ve room for two upper-level courses in culture/literature. You´ll need a base in arts and letters, culture to pass th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YSTCE CST-Spanis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ast track to adding Spanis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NYSED fast-track for highly proficient speakers of Spanis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tain ‘Advanced-Low’ on full ACTFL Oral Proficiency Intervie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tain ‘Advanced-Low’ on full ACTFL Writing Proficiency Te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s the NYSTCE CST-Span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upper-level Spanish courses in culture/literat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ditional resour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ailable for online courses-by-contract or independent studies Jterm or Summer. Will be regular offerings online: SPA421:Structure of Modern Span., SPA402: Span. for Span. Teaching, SPA410: Literacy for Span. Teac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twork with colleagues through WNYFLEC, AATF, Alliance Française, Buffalo Spanish Teachers to create intensive cohorts (summer immersion for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emesters of Spanish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Jean LeLoup´s Costa Rica Progra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3808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ry Ellen Gianturco (Depew HS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class online was great. It really helped me solidify my writing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think a good idea is for French teachers to get together and have a study group - I did that w several gals from your class.  My school happened to have had several Spanish-speaking exchange students at the time that I was getting certified and I was able to get a lot of help from them on our free periods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ould recommend trying to get one of the scholarships to study in Mexico this summer for a few weeks. I wasn't able to do that because of my kid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lso had a good friend from Peru who worked with me regularly. 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lso had a friend of a friend who was getting a PhD at the time in philosophy and I traded Spanish lessons from him for the review of his thesis! 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enna Gaske (Iroquois HS)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found Buffalo State to be very helpful with the proces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ertification officer at Buffalo State was a great resource for questions on meeting state require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th you and Dr. Miller have actual classroom experience.  I found this very helpful.  Professors with actual experience at the lower levels understand much better what K-12 teachers need to be prepared to teach those lev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25:38Z</dcterms:created>
  <dc:creator>warformk</dc:creator>
  <dc:description/>
  <dc:language>en-US</dc:language>
  <cp:lastModifiedBy>Warford, Mark</cp:lastModifiedBy>
  <dcterms:modified xsi:type="dcterms:W3CDTF">2015-02-27T22:24:37Z</dcterms:modified>
  <cp:revision>53</cp:revision>
  <dc:subject/>
  <dc:title>STRAND II: The Profession</dc:title>
</cp:coreProperties>
</file>